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50C5-17C2-41AD-8CB2-383DAF611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1261-7C5A-4C3D-A9C8-F225872CB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521-F780-4A6D-B4B0-F2B26730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3BD-8068-4FCA-969B-C171CE35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CD9-FE75-4B94-BF2C-80340D5B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FCF-79D9-4EB9-B9B4-6957BC25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5B6-6069-47E1-8FDD-1044D427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285-98E5-487E-A2F1-11477646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129-2F6E-4D5C-9863-BCCF4E07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278-7AEF-4FDD-9659-2C3E819E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426-8DB6-4172-96FB-B411F866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D4F-377B-4CF8-8328-BC54DD6C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764-EF67-45E4-B213-3EDE65DE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7F3-AE05-44EA-A72C-B73E7C0B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2E8B-D426-4698-812E-16BF2E11C4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Project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7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2"/>
          <p:cNvSpPr/>
          <p:nvPr/>
        </p:nvSpPr>
        <p:spPr>
          <a:xfrm>
            <a:off x="6781680" y="3048120"/>
            <a:ext cx="2133720" cy="21333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 x 25 = Yr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25 x 15 = Yr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375 x 5 = Yr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6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Global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 and Output/impact levels -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 (management indica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on and approval process by the USAID mission in Qr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to six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nual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standardized forms for better reporting and monit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28600" y="1752480"/>
          <a:ext cx="8686800" cy="4846680"/>
        </p:xfrm>
        <a:graphic>
          <a:graphicData uri="http://schemas.openxmlformats.org/drawingml/2006/table">
            <a:tbl>
              <a:tblPr/>
              <a:tblGrid>
                <a:gridCol w="3352680"/>
                <a:gridCol w="838440"/>
                <a:gridCol w="1447560"/>
                <a:gridCol w="144792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ice hectares under improved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individuals who have received USG supported short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52280" y="1576440"/>
          <a:ext cx="8686800" cy="502920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ood security private enterprises (for profit), producers organizations, water users associations, women's groups, trade and business associations, and community-based organizations (CBOs) receiving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beneficiaries with home gardens or alternate crops as a proxy for access to nutritious foods and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Project Custom (Management)indicator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280" y="1576440"/>
          <a:ext cx="8686800" cy="419112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other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grand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pillover households using improved technologies from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8T16:22:07Z</dcterms:modified>
  <cp:revision>26</cp:revision>
  <dc:subject/>
  <dc:title>PowerPoint Presentation</dc:title>
</cp:coreProperties>
</file>